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C181-B267-4AB3-B89B-07F8940E4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5BEC-7658-41B5-B432-CAC29E15A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B41-E8EB-4869-AAA8-B2D2D12D6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4FA-8B61-4A55-A9E2-6F91ECD29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ACA7-06D4-4EDA-ABCD-7D91767B8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45BB-835A-4F48-8530-F8752F722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28ED-EBEB-42B8-9779-BAFF05B00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8901-8798-468E-BAC9-3FD001731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1EB-5DE3-4BB3-B2DD-D9A8E50D5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40B-C926-49C2-A42F-FA5C89383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172F-2FF7-4808-8D11-A61FE1E2C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68A4-5FC9-4BF5-BA08-3569E8220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B13F-0899-42A1-BE35-FBAE53328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848B-FB1F-4F69-BB0E-23441825E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AB18-1ACC-4C73-B7F6-DA2AFE2A4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E192-FA2A-45E4-97A3-E19CFF0A2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7243-4F71-4F86-B5DA-28A77F61B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EA9-8F40-407D-AD58-15A67040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296-AD90-4104-A571-3737B67B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58B-9C0A-43F3-9BD4-F8C93E0D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7DC-AB61-4204-ACED-5330DB98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6D7-5ACE-4786-A6A0-4E176B61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EBA-AFFD-41AD-B08D-33386287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2BC-25D4-42DA-B1D9-1F01C5DE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A0D-AFFE-474F-B156-AC02ED79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27D-26F6-4932-8512-39D3ABFD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567-3A98-4EB4-924D-960F766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9D0-340D-42C5-814D-501E467D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017-45F3-4201-88BE-68BC515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305-FAAF-4D00-B838-DF83C2361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7CDE-A60B-48AE-B9AD-DBEB90271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www.linkedin.com/groups?gid=2719245&amp;trk=fulpro_grplogo&amp;goback=.hom" TargetMode="External"/><Relationship Id="rId3" Type="http://schemas.openxmlformats.org/officeDocument/2006/relationships/hyperlink" Target="http://groups.google.com/group/mindthebird" TargetMode="External"/><Relationship Id="rId4" Type="http://schemas.openxmlformats.org/officeDocument/2006/relationships/hyperlink" Target="http://twitter.com/mindthefirebird" TargetMode="External"/><Relationship Id="rId5" Type="http://schemas.openxmlformats.org/officeDocument/2006/relationships/hyperlink" Target="http://twitter.com/mindthefirebir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admin@mindthebird.com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hyperlink" Target="mailto:admin@mindthebird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indthebird.com/downloadmtb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Mind The Bird!</a:t>
            </a:r>
            <a:br>
              <a:rPr sz="65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ird 2.5 Launch campa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TEMP\mtb\logos\firebird-logo-200.png"/>
          <p:cNvPicPr/>
          <p:nvPr/>
        </p:nvPicPr>
        <p:blipFill>
          <a:blip r:embed="rId1"/>
          <a:stretch/>
        </p:blipFill>
        <p:spPr>
          <a:xfrm>
            <a:off x="4668840" y="2462040"/>
            <a:ext cx="3268800" cy="323244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762120" y="320040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YOU can help Fire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wnload Firebird marketing materials from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and put on s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banners and put/embed presentations on your site and bl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 out email and then press release regarding Firebird 2.5 and your app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in MindTheBird social networks hub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ndTheBird! LinkedIn -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join now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ndTheBird! Google Group –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join 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witter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twitter.com/mindthefirebi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courage your colleagues, friends and social contacts to join MindTheBird to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7640" y="152280"/>
            <a:ext cx="914400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an help Firebird 2.5 to laun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60360" y="1143000"/>
            <a:ext cx="8631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All – set of marketing materials under free license (use them as template for own material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ambassadors (broad volunteers) and Firebird ISV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sting at launch site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est and lotteries with valuable prizes (licenses from sponso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official sponsors of launch (tools vendo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Abov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+ visibility at launch site (banners/articl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+ presentation during Launch webin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+ Big Thank You from All Firebird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764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s for launching part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Webinars (in Englis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: Core developers and Influencers, tool vend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: Contac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dmin@mindthebird.c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chedule  and advertise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webin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: Anyone who is recognized as Firebird influe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: Contac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dmin@mindthebird.c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chedule and adv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inars are free for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BSurgeon sponsors webinars fe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inars will be recorded and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6840" y="12949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sive context Google ad campaign during 1 week before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 to attract MySQL, MSSQL, InterBase, Oracle develo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ly sponsored by IBSurgeon, other sponsors are very wel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unch webinar (up to 1250 people in LiveMee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marketing efforts: more presentations, localization of existing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unch and post-la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term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 launch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0 volunteers (ISVs, enthusiasts, etc) to post MindTheBird materials/banners at their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00 downloads of collaterals 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articles regarding Firebird around the gl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term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ke the word to mind the Firebir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990360"/>
            <a:ext cx="9067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Firebird 2.5 Launch sit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8564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Firebird presentations and ba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8564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 MindTheBird! and help Firebird 2.5 to st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witter.com/mindthefireb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groups.google.ru/group/mindtheb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In MindTheBi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8564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t Firebird banners and presenta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your site/b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eel free to use any part of this presentation as a template for your own Firebird-related presen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 Launch: 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 Launching partners team 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343400" cy="434340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6" name="TextBox 2"/>
          <p:cNvSpPr/>
          <p:nvPr/>
        </p:nvSpPr>
        <p:spPr>
          <a:xfrm>
            <a:off x="380880" y="58723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ct admin@mindthebird.com with any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99072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ce to sa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ight words about Firebi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 release is 100% natural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s c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press, blogs, etc – need to us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time to star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etitive talk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ySQL, InterBase, MSSQ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move people from 1.5, 2.0 and 2.1 to the latest ver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Launch Is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38098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-66600" y="1066680"/>
            <a:ext cx="9210600" cy="5486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la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640" y="950760"/>
          <a:ext cx="9050040" cy="5970600"/>
        </p:xfrm>
        <a:graphic>
          <a:graphicData uri="http://schemas.openxmlformats.org/drawingml/2006/table">
            <a:tbl>
              <a:tblPr/>
              <a:tblGrid>
                <a:gridCol w="3792240"/>
                <a:gridCol w="5257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ppt/pdf), in English, also available at Slideshare (it’s easy to emb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introduction to the important features of Firebird, for general audience, and technical introduction to Firebird (for technical folk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ne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English (Flash sources availab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banners for enthusiasts and partners who want to support launch and put it on site/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s of words to describe Firebird, to be used in partners 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templa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those who will join MindTheBird and want to announce it to their custo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-release templa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those who will like to announce that their application is compatible with Firebird 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lation of English collaterals to German, Spanish, Portuguese, Russian, 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 volunteers to translate materials and create localized MindTheBird kits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1764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ing materials are read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9840" y="114300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ownlo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anners, ppts and PR templ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ut banne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site or blog (gif or flash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764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use marketing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5" descr=""/>
          <p:cNvPicPr/>
          <p:nvPr/>
        </p:nvPicPr>
        <p:blipFill>
          <a:blip r:embed="rId2"/>
          <a:stretch/>
        </p:blipFill>
        <p:spPr>
          <a:xfrm>
            <a:off x="4675320" y="201600"/>
            <a:ext cx="4565520" cy="405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"/>
          <p:cNvPicPr/>
          <p:nvPr/>
        </p:nvPicPr>
        <p:blipFill>
          <a:blip r:embed="rId3"/>
          <a:stretch/>
        </p:blipFill>
        <p:spPr>
          <a:xfrm>
            <a:off x="4340160" y="1468440"/>
            <a:ext cx="4432320" cy="49132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"/>
          <p:cNvPicPr/>
          <p:nvPr/>
        </p:nvPicPr>
        <p:blipFill>
          <a:blip r:embed="rId4"/>
          <a:stretch/>
        </p:blipFill>
        <p:spPr>
          <a:xfrm>
            <a:off x="3597120" y="2371680"/>
            <a:ext cx="2706840" cy="4797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28440" y="2946240"/>
            <a:ext cx="355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t or emb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rebird presentations into your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PTs as template for own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596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mail templa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nnounce that your company is joined to MindTheBi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t annou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ite and send to your customers by 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764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ed to MindTheBird? Announce 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3571920" y="652320"/>
            <a:ext cx="5419800" cy="60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2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are developer of Firebird-based software, issue the press-release announcing your actual or future support of Firebird 2.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d it to your customers (don’t be concerned about spam claims – it’s 100% correct messag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7640" y="152280"/>
            <a:ext cx="914400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rt Firebird 2.5? Issue press-releas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4681440" y="1139760"/>
            <a:ext cx="45957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52280" y="1295280"/>
            <a:ext cx="9009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1. First to be recrui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in web-sites and existing influencers. Personally ask them to join MindTheBi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ols vend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e official sponsor of launch and use the chance to launch YOUR product with Firebird 2.5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2. Broad recruitmen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Vs who produce Firebird-based apps – personally ask them to join MindTheBir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k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veryone related with Firebi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b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mbassad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Firebird and put banner/presentation to site/blog/twitter/et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764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ruit Launching Partners to MT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076640" y="1905120"/>
            <a:ext cx="47246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1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700" spc="-1" strike="noStrike">
                <a:solidFill>
                  <a:srgbClr val="000000"/>
                </a:solidFill>
                <a:latin typeface="Calibri"/>
              </a:rPr>
              <a:t>you.</a:t>
            </a:r>
            <a:endParaRPr b="0" lang="en-US" sz="1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0" y="152280"/>
            <a:ext cx="9144000" cy="14346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key of Firebird 2.5 Launch Success is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191120" y="47242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irebird helps you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elp Firebird to laun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-225360" y="1620720"/>
            <a:ext cx="443232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29Z</dcterms:created>
  <dc:creator>www.MindTheBird.com</dc:creator>
  <dc:description/>
  <cp:keywords>firebird firebirdsql</cp:keywords>
  <dc:language>en-US</dc:language>
  <cp:lastModifiedBy>IBSurgeon</cp:lastModifiedBy>
  <dcterms:modified xsi:type="dcterms:W3CDTF">2010-03-08T19:51:04Z</dcterms:modified>
  <cp:revision>206</cp:revision>
  <dc:subject>Firebird</dc:subject>
  <dc:title>Firebird_Short_Overview</dc:title>
</cp:coreProperties>
</file>