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B9FE-DDF9-414F-BCBB-477166193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9F71-1374-4BE3-9FE3-C1113BF67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25F8-8A12-407B-A0A9-70AF5EF4F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168F-314C-444A-8F29-A2CA29082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F4DD-D76B-4821-A068-621DC7A75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8686-F6C9-4DA2-87C8-97CB62143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9161-41EC-4D77-A481-720D14A0A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FA08-A6D8-4322-837A-2B9CD1A36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1582-CDC9-4EFF-B785-4E3D0997C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11B-41F5-4C84-A11E-3A5F0F17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AA7-4398-45AA-97C7-38C5F76F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B7E-14D7-4965-9614-5265FF07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BC8-9347-4DBA-B167-B3DC5E21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9A0-20F8-4968-B3AA-1B888C12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342-7362-4318-9EFF-8EB36E24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585-6074-438B-BB15-9B2B1C3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AA3-20C3-4FF0-914B-866BD3EF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2C1-8C41-4163-B1FC-E2791F6D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0D1-2FE1-4725-940A-353C1B12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EC9-E26C-423A-84F1-896CB048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DCF-CCB6-415C-9E35-B65D4D9D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74C3-E414-44A1-A6B9-C4C0578AC1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4BDE-2FBD-4492-BF73-6ADD61AF3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b-aid.com/articles/item104" TargetMode="External"/><Relationship Id="rId2" Type="http://schemas.openxmlformats.org/officeDocument/2006/relationships/hyperlink" Target="http://www.ib-aid.com/articles/item104" TargetMode="External"/><Relationship Id="rId3" Type="http://schemas.openxmlformats.org/officeDocument/2006/relationships/hyperlink" Target="http://www.mindthebird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irebirdsql.org/" TargetMode="External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hyperlink" Target="http://www.mindthebird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hyperlink" Target="http://twitter.com/mindthefirebir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irebird Mythbuste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TEMP\mtb\logos\firebird-logo-200.png"/>
          <p:cNvPicPr/>
          <p:nvPr/>
        </p:nvPicPr>
        <p:blipFill>
          <a:blip r:embed="rId1"/>
          <a:stretch/>
        </p:blipFill>
        <p:spPr>
          <a:xfrm>
            <a:off x="2766960" y="2041560"/>
            <a:ext cx="3268800" cy="3236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4"/>
          <p:cNvSpPr/>
          <p:nvPr/>
        </p:nvSpPr>
        <p:spPr>
          <a:xfrm>
            <a:off x="914400" y="5638680"/>
            <a:ext cx="78487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4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4" descr=""/>
          <p:cNvPicPr/>
          <p:nvPr/>
        </p:nvPicPr>
        <p:blipFill>
          <a:blip r:embed="rId1"/>
          <a:stretch/>
        </p:blipFill>
        <p:spPr>
          <a:xfrm>
            <a:off x="401760" y="1566720"/>
            <a:ext cx="8345520" cy="464508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bird 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1Terabyte (1000+ Gb) small? See repor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ib-aid.com/articles/item10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ompanies run real-world 450+ Gb databases, 100+Gb databases are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st hardware requirements are not equal to modest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0" y="152280"/>
            <a:ext cx="91375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yth 1: Only for small (desktop) datab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495 570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ndow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stall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last 12 month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logged using optional web-link notification, embedded in Windows-installer). Linux and embedded installations are not count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000 visitors/per day and 1.8M annual unique visitors at </a:t>
            </a: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irebirdsql.or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6,583,438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wnloads since 2000 from sourceforge.net on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luded into the repositories of all main Linux distributives (Mandriva, Fedora, Debian, OpenSuse, et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+10% YoY usage growth every ye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0" y="152280"/>
            <a:ext cx="91375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yth 2: Not widely us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04560" y="159984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ice of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 architec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embedded (dll), SuperServer,  Classic, SuperClas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ass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designed for heavy load – instance per connection, hundreds of users, terabytes of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uperServ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for ~&lt;100 users and modest hardware (it is full-blown SQL database for Atom-based energy-efficient servers and netbooks app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uperClass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mbines advantages of both architectures – memory-efficient solution with multi-core/CPU support, supports &gt;1000 conn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0" y="152280"/>
            <a:ext cx="9137520" cy="1312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yth 3: Lack of multi-core/multi-CPU sup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396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bird development is supported by Firebird Foundation and companies around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runs since 2000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main releas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.0, 1.5, 2.0, 2.1, 2.5) and steady roadmap is in place (3.0 is in alpha st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 active developers cover the core and main drivers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ge and very loy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0" y="152280"/>
            <a:ext cx="91375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yth 4: No commitmen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16"/>
          <p:cNvGrpSpPr/>
          <p:nvPr/>
        </p:nvGrpSpPr>
        <p:grpSpPr>
          <a:xfrm>
            <a:off x="92160" y="1494000"/>
            <a:ext cx="4924440" cy="4687560"/>
            <a:chOff x="92160" y="1494000"/>
            <a:chExt cx="4924440" cy="4687560"/>
          </a:xfrm>
        </p:grpSpPr>
        <p:pic>
          <p:nvPicPr>
            <p:cNvPr id="67" name="Скругленный прямоугольник 16" descr=""/>
            <p:cNvPicPr/>
            <p:nvPr/>
          </p:nvPicPr>
          <p:blipFill>
            <a:blip r:embed="rId1"/>
            <a:stretch/>
          </p:blipFill>
          <p:spPr>
            <a:xfrm>
              <a:off x="92160" y="1494000"/>
              <a:ext cx="4924440" cy="46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6200" y="1747800"/>
              <a:ext cx="4353120" cy="41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5105160" y="153972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bird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yBird (Ja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IB, FIBPlus*, IBObjects* (Delphi/C++ Bui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Pascal &amp; Laza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P for Firebi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Ru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C:\TEMP\mtb\logos\ms_net_rgb_web.jpg"/>
          <p:cNvPicPr/>
          <p:nvPr/>
        </p:nvPicPr>
        <p:blipFill>
          <a:blip r:embed="rId2"/>
          <a:stretch/>
        </p:blipFill>
        <p:spPr>
          <a:xfrm>
            <a:off x="2590920" y="1996920"/>
            <a:ext cx="1900080" cy="463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TEMP\mtb\logos\vs08_v_rgb_web.jpg"/>
          <p:cNvPicPr/>
          <p:nvPr/>
        </p:nvPicPr>
        <p:blipFill>
          <a:blip r:embed="rId3"/>
          <a:stretch/>
        </p:blipFill>
        <p:spPr>
          <a:xfrm>
            <a:off x="533520" y="3825720"/>
            <a:ext cx="2104920" cy="6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TEMP\mtb\logos\eclipse1.png"/>
          <p:cNvPicPr/>
          <p:nvPr/>
        </p:nvPicPr>
        <p:blipFill>
          <a:blip r:embed="rId4"/>
          <a:stretch/>
        </p:blipFill>
        <p:spPr>
          <a:xfrm>
            <a:off x="2971800" y="3902040"/>
            <a:ext cx="1628640" cy="86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TEMP\mtb\logos\jav_get_powered_med.jpg"/>
          <p:cNvPicPr/>
          <p:nvPr/>
        </p:nvPicPr>
        <p:blipFill>
          <a:blip r:embed="rId5"/>
          <a:stretch/>
        </p:blipFill>
        <p:spPr>
          <a:xfrm>
            <a:off x="457200" y="1828800"/>
            <a:ext cx="1905120" cy="84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TEMP\mtb\logos\php-med-trans.png"/>
          <p:cNvPicPr/>
          <p:nvPr/>
        </p:nvPicPr>
        <p:blipFill>
          <a:blip r:embed="rId6"/>
          <a:stretch/>
        </p:blipFill>
        <p:spPr>
          <a:xfrm>
            <a:off x="3124080" y="2911320"/>
            <a:ext cx="1206720" cy="6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C:\TEMP\mtb\logos\rails.png"/>
          <p:cNvPicPr/>
          <p:nvPr/>
        </p:nvPicPr>
        <p:blipFill>
          <a:blip r:embed="rId7"/>
          <a:stretch/>
        </p:blipFill>
        <p:spPr>
          <a:xfrm>
            <a:off x="3429000" y="5045040"/>
            <a:ext cx="533520" cy="679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469080" y="298764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lphi/C++Bui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3" descr="C:\TEMP\mtb\logos\python-logo.png"/>
          <p:cNvPicPr/>
          <p:nvPr/>
        </p:nvPicPr>
        <p:blipFill>
          <a:blip r:embed="rId8"/>
          <a:stretch/>
        </p:blipFill>
        <p:spPr>
          <a:xfrm>
            <a:off x="685800" y="4892760"/>
            <a:ext cx="135900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C:\TEMP\mtb\logos\perl.bmp"/>
          <p:cNvPicPr/>
          <p:nvPr/>
        </p:nvPicPr>
        <p:blipFill>
          <a:blip r:embed="rId9"/>
          <a:stretch/>
        </p:blipFill>
        <p:spPr>
          <a:xfrm>
            <a:off x="1752480" y="5502240"/>
            <a:ext cx="789120" cy="317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573160" y="6019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commercial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yth 5. Only for Delphi/C++ Build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990360"/>
            <a:ext cx="9067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 Firebird 2.5 Launch sit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Firebird presentations and ba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 MindTheBird! and help Firebird 2.5 to st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itter.com/mindthefireb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groups.google.ru/group/mindtheb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edIn MindTheBi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banners and presentations on your site/b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l free to use any part of this presentation as a template for your own Firebird-related presen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ebird Launch: 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4:29Z</dcterms:created>
  <dc:creator>www.MindTheBird.com</dc:creator>
  <dc:description/>
  <cp:keywords>firebird firebirdsql</cp:keywords>
  <dc:language>en-US</dc:language>
  <cp:lastModifiedBy>IBSurgeon</cp:lastModifiedBy>
  <dcterms:modified xsi:type="dcterms:W3CDTF">2010-03-08T19:34:16Z</dcterms:modified>
  <cp:revision>166</cp:revision>
  <dc:subject>Firebird</dc:subject>
  <dc:title>Firebird_Myths</dc:title>
</cp:coreProperties>
</file>