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1BA4F-C522-4FA6-90C7-68DCCDA6AEC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C9B74-228D-4907-BCE9-5D06A22F0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FEBB7-CD57-4921-9925-D60F9869F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59C22-AD9D-4CA9-B123-8D1C1F5EA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23607-B33E-4CDD-BF43-812A7A8A6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18D8E-FB70-40A8-929A-461DB1752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C185A-57BD-4900-BE58-B56B4FFBB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08910-BAB7-4C06-9F10-41EB39697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CC689-0F27-4149-BAF7-B6B793829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3B28E-E993-4369-8548-F992F7C8C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D8091-889A-4076-AFC2-69176013E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31F-5E19-47FA-9C27-7C92C5BF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B29-FEB4-463C-999C-96410254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F11-A5D1-46C9-A7F9-ACECF4EE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E31-B3E9-48DE-9BE3-F50DEDD6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B22-A1BB-4D66-B3D2-B4215A77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782-5632-4E2E-B5FC-5C15F437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042-1DB4-4653-8EA6-E433DC29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223-E794-4FB2-9EA5-64D8FA4E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0E9-97C6-4A76-8569-C192A1C8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C71-AF11-4E29-BBD4-F4526C44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5B4-A085-4E94-8BF0-41C2D49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591-2E1C-4543-B030-5672DF9E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04/06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8936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25A6F-8F39-438C-ABFE-18D95641A29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mindthebird.com/" TargetMode="External"/><Relationship Id="rId5" Type="http://schemas.openxmlformats.org/officeDocument/2006/relationships/hyperlink" Target="http://www.mindthebird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hyperlink" Target="http://www.mindthebird.com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http://www.mindthebird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hyperlink" Target="http://www.mindthebird.com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hyperlink" Target="http://www.mindthebird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1219320"/>
            <a:ext cx="3504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Firebi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za de 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versală open sour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68840" y="1736640"/>
            <a:ext cx="3268800" cy="323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1143000"/>
            <a:ext cx="82296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zitează site-ul de lansare Firebird 2.5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Gothic"/>
              </a:rPr>
              <a:t>Citește mai mult despre beneficiile Firebi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Gothic"/>
              </a:rPr>
              <a:t>Descarcă prezentările Firebi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Gothic"/>
              </a:rPr>
              <a:t>Alătură-te comunității MindTheBird! Și spijină lansarea Firebird 2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Gothic"/>
              </a:rPr>
              <a:t>Împărtășește experiența ta cu Firebird – va face  Firebird mai vizibilă și va confirma faptul că este utiliz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losește liber orice parte a acestei prezentări ca template pentru orice prezentare legată de de Firebi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ebird: următorul p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841320" y="0"/>
            <a:ext cx="10472760" cy="70898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3760" y="5846760"/>
            <a:ext cx="2927520" cy="1157400"/>
            <a:chOff x="23760" y="5846760"/>
            <a:chExt cx="2927520" cy="115740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0480" y="5846760"/>
              <a:ext cx="28908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3760" y="5943600"/>
              <a:ext cx="260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e46c0a"/>
                  </a:solidFill>
                  <a:latin typeface="Calibri"/>
                </a:rPr>
                <a:t>Lansat din 2000!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086360" y="5546880"/>
            <a:ext cx="4184280" cy="403200"/>
            <a:chOff x="4086360" y="5546880"/>
            <a:chExt cx="4184280" cy="4032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4406760" y="5546880"/>
              <a:ext cx="35416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86360" y="5562720"/>
              <a:ext cx="418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itește mai mult la </a:t>
              </a:r>
              <a:r>
                <a:rPr b="0" lang="en-US" sz="1800" spc="-1" strike="noStrike" u="sng">
                  <a:solidFill>
                    <a:srgbClr val="ccccff"/>
                  </a:solidFill>
                  <a:uFillTx/>
                  <a:latin typeface="Calibri"/>
                  <a:hlinkClick r:id="rId4"/>
                </a:rPr>
                <a:t>www.mindthebird.com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ebird: 10 ani de suc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3240" y="4297320"/>
            <a:ext cx="262260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54040" y="1554120"/>
            <a:ext cx="2622600" cy="1792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66000" y="1474920"/>
            <a:ext cx="2620800" cy="1798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066000" y="4297320"/>
            <a:ext cx="2584440" cy="176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376440" y="2846520"/>
            <a:ext cx="2659320" cy="2066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59120" y="525780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ț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460520" y="358128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059000" y="18288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nț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025040" y="350532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a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260360" y="6235560"/>
            <a:ext cx="7896240" cy="397080"/>
            <a:chOff x="1260360" y="6235560"/>
            <a:chExt cx="7896240" cy="397080"/>
          </a:xfrm>
        </p:grpSpPr>
        <p:pic>
          <p:nvPicPr>
            <p:cNvPr id="74" name="" descr=""/>
            <p:cNvPicPr/>
            <p:nvPr/>
          </p:nvPicPr>
          <p:blipFill>
            <a:blip r:embed="rId6"/>
            <a:stretch/>
          </p:blipFill>
          <p:spPr>
            <a:xfrm>
              <a:off x="1260360" y="6235560"/>
              <a:ext cx="789624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278000" y="6248520"/>
              <a:ext cx="786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ceste fotografii sunt cele reale cu entități care utilizează Firebird (ERP, etc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152280"/>
            <a:ext cx="8763120" cy="1312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ebird: toate industriile, toate tipurile de aplicaț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3086280" y="643248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1760" y="1474920"/>
            <a:ext cx="2622600" cy="2000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0960" y="4218120"/>
            <a:ext cx="2586240" cy="1974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815080" y="4370400"/>
            <a:ext cx="2523960" cy="173844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720720" y="6229440"/>
            <a:ext cx="8089920" cy="433440"/>
            <a:chOff x="720720" y="6229440"/>
            <a:chExt cx="8089920" cy="43344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720720" y="6229440"/>
              <a:ext cx="80899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44480" y="6248520"/>
              <a:ext cx="803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talia, Turcia, Franța, Spania, Australia, România … și lista continuă 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5662440" y="1401840"/>
            <a:ext cx="2622600" cy="200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071880" y="2693880"/>
            <a:ext cx="2622600" cy="2000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779640" y="19051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azi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955800" y="35812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rm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617880" y="3657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3965400" y="510552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52280"/>
            <a:ext cx="8763120" cy="6883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irebird: comunitate uriașă și fidelă (~1M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114543" dir="11676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ce Firebird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 scăz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Licență cu adevărat open source, realmente fără nici un cost ascu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lab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4 arhitecturi disponib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Ideal pentru SMB dar potrivit pentru majoritatea intreprinderilor m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șor de exploa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Independent complet de tehnologiile SO : Windows, Linux, MacO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Proiectat pentru utilizare hibridă : OLTP + OL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4 arhitecturi disponib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Ideal pentru SMB, dar potrivit pentru majoritatea aplicațiilor din clasa enterpr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ebird: Cost scăz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 adevărat : este cu adevărat software li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Licență derivată Mozilla = nici o restricț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Fără licență duală sau limitări ascu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alare simpl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Ușor de înglobat în executabil de instalare (toate versiuni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Firebird pornește out-of-the-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Întreținere simpl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Aplicațiile de întreținere incluse în distribuț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Mentenanța este suportată la nivel de servicii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60020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arhitecturi disponibile pentru scalare de la 1Mb la 1T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Limita fizică este de 32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În practică o bază de date are uzual 1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la 1 utilizator la 1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Scalare transparent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la DLL embedded la  procesoare multi-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ebird: Scalabilit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92720" y="1170000"/>
            <a:ext cx="1903680" cy="1463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705720" y="2819520"/>
            <a:ext cx="914400" cy="6094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967360" y="3535200"/>
            <a:ext cx="2506680" cy="3303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44440" y="1646280"/>
            <a:ext cx="4924440" cy="4614840"/>
            <a:chOff x="244440" y="1646280"/>
            <a:chExt cx="4924440" cy="461484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244440" y="1646280"/>
              <a:ext cx="4924440" cy="46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23800" y="1895400"/>
              <a:ext cx="4362480" cy="40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1828800" cy="66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174168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743200" y="3429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4320" y="5638680"/>
            <a:ext cx="36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*Supports 32bit and 64 bit Windows and Lin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1055520" y="4800600"/>
            <a:ext cx="1420920" cy="905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876920" y="18288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Gothic"/>
              </a:rPr>
              <a:t>Suportat pe Windows 32/64, Linux 32/64, Solaris, Mac OS X, FreeBSD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Gothic"/>
              </a:rPr>
              <a:t>Interoperabilitate 100% și migrare între platforme într-un singur 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Gothic"/>
              </a:rPr>
              <a:t>Firebird este potrivit pentru orice ce fel de software: ERP/CRM, retail/financiar/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ebird: baza de date multi-platform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92160" y="1725480"/>
            <a:ext cx="4924440" cy="4687920"/>
            <a:chOff x="92160" y="1725480"/>
            <a:chExt cx="4924440" cy="468792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92160" y="1725480"/>
              <a:ext cx="4924440" cy="468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76200" y="1976400"/>
              <a:ext cx="4353120" cy="41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105520" y="1752480"/>
            <a:ext cx="388620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bird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yBird (Ja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IB, FIBPlus*, IBObjects* (Delphi/C++ Bui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Pascal &amp; Laza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P for Firebi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Ru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90920" y="2209680"/>
            <a:ext cx="1900080" cy="463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3520" y="4038480"/>
            <a:ext cx="2104920" cy="62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971800" y="4114800"/>
            <a:ext cx="1628640" cy="8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80880" y="1981080"/>
            <a:ext cx="1905120" cy="84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124080" y="3124080"/>
            <a:ext cx="1206720" cy="64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429000" y="5257800"/>
            <a:ext cx="533520" cy="681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8360" y="320040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lphi/C++Bui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685800" y="5105520"/>
            <a:ext cx="1359000" cy="45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1752480" y="5715000"/>
            <a:ext cx="789120" cy="317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828680" y="632448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oftware sub licență comercial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rebird: libertate pentru dezvoltato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4:29Z</dcterms:created>
  <dc:creator>www.MindTheBird.com</dc:creator>
  <dc:description/>
  <cp:keywords>firebird firebirdsql</cp:keywords>
  <dc:language>en-US</dc:language>
  <cp:lastModifiedBy>IBSurgeon</cp:lastModifiedBy>
  <dcterms:modified xsi:type="dcterms:W3CDTF">2010-03-08T19:53:32Z</dcterms:modified>
  <cp:revision>153</cp:revision>
  <dc:subject>Firebird</dc:subject>
  <dc:title>Firebird_Short_Overview</dc:title>
</cp:coreProperties>
</file>