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CFE02-005C-4A71-8781-5814E9EF2F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40881-82BD-46B3-8EA4-1E9C6D4C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167A-9EDB-4D0E-A1D0-C26612DDD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A4C7-98A0-4084-B15E-0FF330C83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139B4-874B-40BE-A885-050C7E448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36CC7-441B-4379-AE87-1A42239F5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B92F5-C8BB-4817-AEEF-5DCC7B371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F4DF1-6BE8-413C-A66A-7CDD0EF76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FFF47-082F-4F34-B1E6-708AD842E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3EDAB-8CA6-4308-B82B-82DF92344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1F0A7-CBFF-4D99-8FA4-26B3634A8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D2CB9-9C92-44C6-A28C-34CDD489E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649F-2661-44DF-99D6-425BBFF90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EB358-3B72-42DE-8AE4-38F49AA26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59883-D517-4FAA-9FF6-9F4BA4563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BE721-8C37-485E-AD62-4FFF52768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E0DA-42F9-4471-B88A-DD611041C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C3D-BF9E-4BE1-AF6B-7B50DA6A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BDC-1D47-4F03-A7F8-66B974F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7B3-FDB5-4C96-BCF1-11C1FCF5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DA7-57CA-4CC3-B9E0-6FF2CBF8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C6A-0CBD-442D-8402-E3179BD9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3A6-17C0-4DBE-AA51-3BF5FAF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7A7-274C-4247-B730-609CAF72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973-A269-4EF0-ACC3-4E9E984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94A-E87B-4D54-BE9B-33A2676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139-9AEC-4E58-88F9-A437582A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CFD-52E4-42C6-8AB3-CD1DD53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392-F7B1-4A03-B7A7-31FCD1D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04/06/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D4AA1-D19D-4AFD-B81F-B0D9152DDCA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ndthebir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www.linkedin.com/groups?gid=2719245&amp;trk=fulpro_grplogo&amp;goback=.hom" TargetMode="External"/><Relationship Id="rId3" Type="http://schemas.openxmlformats.org/officeDocument/2006/relationships/hyperlink" Target="http://groups.google.com/group/mindthebird" TargetMode="External"/><Relationship Id="rId4" Type="http://schemas.openxmlformats.org/officeDocument/2006/relationships/hyperlink" Target="http://twitter.com/mindthefirebird" TargetMode="External"/><Relationship Id="rId5" Type="http://schemas.openxmlformats.org/officeDocument/2006/relationships/hyperlink" Target="http://twitter.com/mindthefirebir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min@mindthebird.com" TargetMode="External"/><Relationship Id="rId2" Type="http://schemas.openxmlformats.org/officeDocument/2006/relationships/hyperlink" Target="http://www.mindthebird.com/" TargetMode="External"/><Relationship Id="rId3" Type="http://schemas.openxmlformats.org/officeDocument/2006/relationships/hyperlink" Target="mailto:admin@mindthebird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ndthebird.com/" TargetMode="External"/><Relationship Id="rId2" Type="http://schemas.openxmlformats.org/officeDocument/2006/relationships/hyperlink" Target="http://twitter.com/mindthefirebird" TargetMode="External"/><Relationship Id="rId3" Type="http://schemas.openxmlformats.org/officeDocument/2006/relationships/hyperlink" Target="http://twitter.com/mindthefirebird" TargetMode="External"/><Relationship Id="rId4" Type="http://schemas.openxmlformats.org/officeDocument/2006/relationships/hyperlink" Target="http://groups.google.ru/group/mindthebird" TargetMode="External"/><Relationship Id="rId5" Type="http://schemas.openxmlformats.org/officeDocument/2006/relationships/hyperlink" Target="http://groups.google.ru/group/mindthebird" TargetMode="External"/><Relationship Id="rId6" Type="http://schemas.openxmlformats.org/officeDocument/2006/relationships/hyperlink" Target="http://www.linkedin.com/groups?home=&amp;gid=2719245&amp;trk=anet_ug_hm&amp;goback=.hom" TargetMode="External"/><Relationship Id="rId7" Type="http://schemas.openxmlformats.org/officeDocument/2006/relationships/hyperlink" Target="http://www.mindthebird.com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admin@mindthebird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indthebird.com/downloadmtb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465120"/>
            <a:ext cx="792468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alibri"/>
              </a:rPr>
              <a:t>Mind The Bird!</a:t>
            </a:r>
            <a:br>
              <a:rPr sz="65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pania de lansare Firebird 2.5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68840" y="2462040"/>
            <a:ext cx="3268800" cy="32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20040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m poți TU sprijini Fire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arcă materialele de marketing Firebird de la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și pune-le pe si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Pune bannere și/sau include prezentarea pe site și 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Trimite e-mail apoi comunicat de presă privind Firebird 2.5 și aplicația 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ătură-te rețelei sociale MindTheBird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- MindTheBird! LinkedIn -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2"/>
              </a:rPr>
              <a:t>alătură-te ac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- MindTheBird! Google Group –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3"/>
              </a:rPr>
              <a:t>alătură-te ac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- Twitt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4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5"/>
              </a:rPr>
              <a:t>twitter.com/mindthefirebi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Încurajează colegii, prietenii și contactele sociale să se alăture MindTheBi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m poț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rijini lansarea Firebird 2.5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0360" y="1143000"/>
            <a:ext cx="863136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tru toți – set complet de materiale de marketing sub licență liberă (folosește-le ca template pentru prezentările tal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tru ambasadori (voluntari) și integratori Firebi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Listarea pe site-ul de lasare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1"/>
              </a:rPr>
              <a:t>www.mindthebir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MS Gothic"/>
              </a:rPr>
              <a:t>Concursuri și loterie cu produse valoroase (licențe de la sponsor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tru sponsorii oficiali ai lansării (producătorii de tehnolog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ate cele de mai su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vizibilitate pe site-ul de lansare (bannere/articol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prezentări si conferințe web cu ocazia lansări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+ Multe mulțumiri de la toți utilizatorii Firebi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764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douri pentru partenerii de lans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ințe WEB globale (în Englez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S Gothic"/>
              </a:rPr>
              <a:t>CINE: Dezvoltatori, formatori de opinie, producători de tehn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S Gothic"/>
              </a:rPr>
              <a:t>CUM: Contactează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1"/>
              </a:rPr>
              <a:t>admin@mindthebird.co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S Gothic"/>
              </a:rPr>
              <a:t> pentru a programa promovarea prin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2"/>
              </a:rPr>
              <a:t>www.mindthebird.co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ințe web lo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CINE: Oricine este recunoscut ca formator de opinie Firebi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CUM: Contacteaz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3"/>
              </a:rPr>
              <a:t>admin@mindthebird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 pentru a programa promov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iparea la conferințele web este liber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IBSurgeon sponsorizează costurile de difuz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Gothic"/>
              </a:rPr>
              <a:t>Conferințele vor fi înregistrate și public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i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295280"/>
            <a:ext cx="853452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09760" indent="-50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vare contextual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Promovare contextuală masivă Google în săptămâna dinaintea lansăr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Țintă în atragerea dezvoltatorilor MySQL, MSSQL, InterBase, Ora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Initial sponsorizată de IBSurgeon, alți sponsori sunt oricând bine veniț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760" indent="-50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ință web de lansare (până la 1250 de persoane așteptate în Live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760" indent="-509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orturi de marketing susținute: mai multe prezentări, localizarea materialelor exist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760" indent="-509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9760"/>
                <a:tab algn="l" pos="957240"/>
                <a:tab algn="l" pos="1406520"/>
                <a:tab algn="l" pos="1855800"/>
                <a:tab algn="l" pos="2305080"/>
                <a:tab algn="l" pos="2754360"/>
                <a:tab algn="l" pos="3203640"/>
                <a:tab algn="l" pos="3652920"/>
                <a:tab algn="l" pos="4102200"/>
                <a:tab algn="l" pos="4551480"/>
                <a:tab algn="l" pos="5000760"/>
                <a:tab algn="l" pos="5450040"/>
                <a:tab algn="l" pos="5899320"/>
                <a:tab algn="l" pos="6348240"/>
                <a:tab algn="l" pos="6797520"/>
                <a:tab algn="l" pos="7246800"/>
                <a:tab algn="l" pos="7696080"/>
                <a:tab algn="l" pos="8145360"/>
                <a:tab algn="l" pos="8594640"/>
                <a:tab algn="l" pos="9043920"/>
                <a:tab algn="l" pos="9493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sare și post-lans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iective pe termen sc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30 parteneri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500 voluntari (integratori, entuziaști, etc) care să posteze materiale MindTheBird pe site-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100000 descărcări a kit-urilor de instal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100 articole privind Firebird la nivel glob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 termen 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Diseminarea informațiilor care fac Firebird să contez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i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90720"/>
            <a:ext cx="906768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zitează site-ul de lansare 2.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indTheBird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24160" indent="-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Descarcă prezentările și bannerele Firebi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24160" indent="-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Alătură-te campaniei MindTheBird! Și sprijină lansarea Firebird 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3"/>
              </a:rPr>
              <a:t>twitter.com/mindthefirebi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5"/>
              </a:rPr>
              <a:t>groups.google.ru/group/mindthebi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ea typeface="MS Gothic"/>
                <a:hlinkClick r:id="rId6"/>
              </a:rPr>
              <a:t>LinkedIn MindTheBi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4160" indent="-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Pune bannere și prezentările Firebi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Gothic"/>
              </a:rPr>
              <a:t> pe site/b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osește liber oricare din aceste prezentări ca template pentru oricare prezentare legată de Firebi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2280"/>
            <a:ext cx="876312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sarea Firebird : pasul urmă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MindTheBird.com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ătură-te echipei partenerilor de lansare ACU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43400" cy="4343400"/>
          </a:xfrm>
          <a:prstGeom prst="rect">
            <a:avLst/>
          </a:prstGeom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380880" y="58723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ează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admin@mindthebird.c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5334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ituie o șansă de a spun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vintele potrivite despre Firebi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iunea 2.5 este un eveniment 100%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știr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tru presă, bloguri, etc – este nevoie să fie publicat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e un moment bun să pornim discuții despre competitivitate: MySQL, InterBase, MSSQ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e nevoie să anunțăm că este timpul pentru upgrade al instalărilor 1.5, 2.0 and 2.1 la ultima versiune disponibil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ce lansarea este important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8098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ul lans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4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640" y="950760"/>
          <a:ext cx="9050040" cy="5970240"/>
        </p:xfrm>
        <a:graphic>
          <a:graphicData uri="http://schemas.openxmlformats.org/drawingml/2006/table">
            <a:tbl>
              <a:tblPr/>
              <a:tblGrid>
                <a:gridCol w="3792240"/>
                <a:gridCol w="525780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tăr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ppt/pdf), in Română, disponibile și pe Slideshare (pot fi incluse direct în s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tă introducere a celor mai importante facilități Firebird, destinate audienței generale, și introducere tehnică Firebi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ner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omână (surse Flash disponib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bannere pentru partenerii entuziaști și pentru cei care doresc să promoveze lansarea pe  site/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er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omân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uri de fraze pentru descrierea Firebird, destinate utilizării în materialele partene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-mai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omân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cei care aderă la campania MindTheBird și doresc să anunțe lansarea clienților 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omunicat de pres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omân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cei care doresc să anunțe compatibilitatea aplicațiilor lor cu Firebird 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84384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erialele de marketing sunt pregătit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200" y="1143000"/>
            <a:ext cx="403884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Descarc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annere, ppts și template-uri 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une banne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 site sau blog (gif sau flash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m folosești materialele de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75320" y="201600"/>
            <a:ext cx="4565520" cy="405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40160" y="1468440"/>
            <a:ext cx="4432320" cy="4913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97120" y="2371680"/>
            <a:ext cx="2706840" cy="47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440" y="2946240"/>
            <a:ext cx="355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ne sau înglobeaz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ezentări Firebird în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osește PPT ca template pentru prezentarea 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3880"/>
            <a:ext cx="380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oseș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ate e-mai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ru a anunța participarea companiei tale în campania MindTheBi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ne anunțu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în site și trimite clienților tăi 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7640" y="152280"/>
            <a:ext cx="914400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-ai alăturat campaniei MindTheBird? Anunță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71920" y="652320"/>
            <a:ext cx="5419800" cy="602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că ești dezvoltator al unei aplicații bazate pe Firebird, dă un comunicat de presă în care anunți suportul actual și viitor pentru Firebird 2.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mite mesajul clienților tăi (nu fi îngrijorat de spam – este un mesaj  corect 10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7640" y="152280"/>
            <a:ext cx="9144000" cy="1312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zvolți pe Firebird 2.5? Dă un comunicat de pres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1440" y="1139760"/>
            <a:ext cx="4595760" cy="54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1295280"/>
            <a:ext cx="9009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za 1. Parteneri interesaț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site-uri cu trafic și formatori de opinie. Solicită-le personal implicarea în campania MindTheBi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ător de tehnologie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MS Gothic"/>
              </a:rPr>
              <a:t>Poți deveni sponsor oficial ai lansării și ai șansa de a-ți promova produsele TALE împreună cu Firebird 2.5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za 2. Recrutarea pe scară largă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ători de aplicații pe Firebird. Solicită-le personal implicarea în campania MindTheBir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icită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ricui are sau poate avea legătură cu Firebi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ă devină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mbasad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rebird și să pună bannerul/prezentarea pe site/blog/twitter/e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7640" y="152280"/>
            <a:ext cx="914400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rutează parteneri pentru lansarea M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076640" y="1905120"/>
            <a:ext cx="4724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1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700" spc="-1" strike="noStrike">
                <a:solidFill>
                  <a:srgbClr val="000000"/>
                </a:solidFill>
                <a:latin typeface="Calibri"/>
              </a:rPr>
              <a:t>tine.</a:t>
            </a:r>
            <a:endParaRPr b="0" lang="en-US" sz="1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MindTheBird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2280"/>
            <a:ext cx="914400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ia lansării Firebird 2.5 Launch Succesul depinde d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724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ebird te ajut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jută lansarea Firebir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25360" y="1620720"/>
            <a:ext cx="4432320" cy="529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29Z</dcterms:created>
  <dc:creator>www.MindTheBird.com</dc:creator>
  <dc:description/>
  <cp:keywords>firebird firebirdsql</cp:keywords>
  <dc:language>en-US</dc:language>
  <cp:lastModifiedBy>IBSurgeon</cp:lastModifiedBy>
  <dcterms:modified xsi:type="dcterms:W3CDTF">2010-03-08T19:51:04Z</dcterms:modified>
  <cp:revision>206</cp:revision>
  <dc:subject>Firebird</dc:subject>
  <dc:title>Firebird_Short_Overview</dc:title>
</cp:coreProperties>
</file>