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B192-784B-42A8-9CF4-D2398F978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5E6A9-6ABC-4789-8286-BA91F6658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9564C-F901-4F0A-9820-FAA4EA65F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20F79-92BF-4216-987F-15A089EF9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E5C39-01A0-4193-8E43-CB1710587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5F50C-1C38-4E95-8238-1B21D9195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17CBB-45E0-459D-95AF-6B51C732F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11CDE-9231-42FE-9353-8EAC15394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52E34-7B78-4C05-A384-9309F1A78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4D5-D902-4459-B9D5-41ABDF28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B7C-BC1F-4E12-B656-18D19250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73B-3293-496B-8928-C15E3B5E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32F-6613-4A42-A091-75904D9C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D79-FFF2-4B37-9A17-874B1D95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1C5-82F0-4493-A321-E4CBAED5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543-ABB0-41E0-BF3E-ED006CE8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B66-8661-495A-8C49-6EB99E8B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753-C7FD-4C48-9521-D0D8CADC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1B1-BB93-4AA7-9FE9-901FF0B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790-9099-4599-9869-3F3A767A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26A-1754-41BF-987A-0456BA4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4/05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160"/>
            <a:ext cx="289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AB605-1145-40C5-B4B6-5F82941FA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b-aid.com/articles/item104" TargetMode="External"/><Relationship Id="rId2" Type="http://schemas.openxmlformats.org/officeDocument/2006/relationships/hyperlink" Target="http://www.ib-aid.com/articles/item104" TargetMode="External"/><Relationship Id="rId3" Type="http://schemas.openxmlformats.org/officeDocument/2006/relationships/hyperlink" Target="http://www.mindthebird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irebirdsql.org/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hyperlink" Target="http://www.mindthebird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hyperlink" Target="http://twitter.com/mindthefirebird" TargetMode="External"/><Relationship Id="rId4" Type="http://schemas.openxmlformats.org/officeDocument/2006/relationships/hyperlink" Target="http://twitter.com/mindthefirebird" TargetMode="External"/><Relationship Id="rId5" Type="http://schemas.openxmlformats.org/officeDocument/2006/relationships/hyperlink" Target="http://groups.google.ru/group/mindthebird" TargetMode="External"/><Relationship Id="rId6" Type="http://schemas.openxmlformats.org/officeDocument/2006/relationships/hyperlink" Target="http://groups.google.ru/group/mindthebird" TargetMode="External"/><Relationship Id="rId7" Type="http://schemas.openxmlformats.org/officeDocument/2006/relationships/hyperlink" Target="http://www.linkedin.com/groups?home=&amp;gid=2719245&amp;trk=anet_ug_hm&amp;goback=.hom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7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: Mituri vs Adevă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66960" y="2041560"/>
            <a:ext cx="3268800" cy="323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5638680"/>
            <a:ext cx="7848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4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1760" y="1566720"/>
            <a:ext cx="834552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uri Fire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6440" y="1576440"/>
            <a:ext cx="8345520" cy="4643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82960" y="1814400"/>
            <a:ext cx="5400720" cy="331920"/>
          </a:xfrm>
          <a:prstGeom prst="roundRect">
            <a:avLst>
              <a:gd name="adj" fmla="val 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1. Numai pentru baze de date mici (deskto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982960" y="2535120"/>
            <a:ext cx="5400720" cy="331920"/>
          </a:xfrm>
          <a:prstGeom prst="roundRect">
            <a:avLst>
              <a:gd name="adj" fmla="val 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2. Nu este larg răspân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2982960" y="3255840"/>
            <a:ext cx="5400720" cy="331920"/>
          </a:xfrm>
          <a:prstGeom prst="roundRect">
            <a:avLst>
              <a:gd name="adj" fmla="val 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3. Lipsa suportului multi-core/multi-CP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2982960" y="3940200"/>
            <a:ext cx="5400720" cy="331920"/>
          </a:xfrm>
          <a:prstGeom prst="roundRect">
            <a:avLst>
              <a:gd name="adj" fmla="val 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5. Fără responsabilit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2982960" y="4695840"/>
            <a:ext cx="5400720" cy="331920"/>
          </a:xfrm>
          <a:prstGeom prst="roundRect">
            <a:avLst>
              <a:gd name="adj" fmla="val 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6. Numai pentru Delphi/C++ Buil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e 1Terabyte (1000+ GB) mic? Vizualizați: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ib-aid.com/articles/item10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âteva companii rulează db-uri de 450+ GB, db-uri de 100+GB sunt un fapt obișn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ințe modeste de hardware nu înseamnă și performanțe mode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2280"/>
            <a:ext cx="9137520" cy="581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ul 1: Numai pentru baze de date mici (deskto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347840"/>
            <a:ext cx="8458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495 570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talăr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ows p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ltimele 12 luni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înregistrate opțional folosind notificări web-link, încapsulate în installer-ul Windows). Linux și instalările “embedded” nu sunt luate în considera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000 de vizitatatori/zi și 1.8M vizitatori unici/an la: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firebirdsql.or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6,583,438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scărcări începând din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000 numai de pe: sourceforge.n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e inclus în toate depozitele de aplicații ale tuturor distribuțiilor principale de Linux (Mandriva, Fedora, Debian, OpenSuse, et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 creștere anuală pentru utilizare de +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52280"/>
            <a:ext cx="9137520" cy="581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ul 2: Nu este larg răspân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987480"/>
            <a:ext cx="87627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alege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 arhitectur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mbedded (dll), SuperServer,  Classic, SuperClas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e proiectat pentru încărcări grele – instanță/conexiune, sute de utilizatori terabytes de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perServ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e proiectat pentru mai puțin de 100 utilizatori și o arhitectură hardware modestă (este un server de baze de date SQL deosebit destinat serverelor și laptop-urilor bazate pe CPU-ul Atom – un procesor economic d.p.d.v. energet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perClass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bină avantajele ambelor arhitecturi – este eficient ca și consum de memorie și e o soluție cu suport multi-core/CPU și multi-core/multi-CPU. Suportă mai mult de 1000 conexiu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280"/>
            <a:ext cx="9137520" cy="5814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ul 3: Lipsa suportului multi-core/multi-CP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396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zvoltarea Firebird este suportată de fundația Firebird și de companiile afil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zvoltarea se produce încă din anul 2000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versiuni princip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.0, 1.5, 2.0, 2.1, 2.5) și  continuă într-un ritm constant (3.0 este în stadiul alpf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 dezvoltatori activi acoperă dezvoltarea nucleului și a principalelor “drive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comunitate uriașă și foarte loial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52280"/>
            <a:ext cx="91375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tul 4: Fără responsabilita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92160" y="1494000"/>
            <a:ext cx="4924440" cy="4687560"/>
            <a:chOff x="92160" y="1494000"/>
            <a:chExt cx="4924440" cy="46875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92160" y="1494000"/>
              <a:ext cx="4924440" cy="46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76200" y="1747800"/>
              <a:ext cx="4353120" cy="41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05520" y="1539720"/>
            <a:ext cx="388620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bird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yBird (J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IB, FIBPlus*, IBObjects* (Delphi/C++ Bui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Pascal &amp; Laza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P pt. Firebi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Ru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și multe altel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90920" y="1996920"/>
            <a:ext cx="1900080" cy="463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3520" y="3825720"/>
            <a:ext cx="2104920" cy="62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971800" y="3902040"/>
            <a:ext cx="162864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57200" y="1828800"/>
            <a:ext cx="1905120" cy="847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124080" y="2911320"/>
            <a:ext cx="1206720" cy="64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429000" y="5045040"/>
            <a:ext cx="533520" cy="679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298764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lphi/C++Bui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685800" y="4892760"/>
            <a:ext cx="135900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1752480" y="5502240"/>
            <a:ext cx="789120" cy="317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65320" y="60199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software 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th 5. Numai pentru Delphi/C++ Build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nsarea Firebird: pașii următ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90720"/>
            <a:ext cx="906768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zitează noul site lansat pt. Firebird 2.5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19120" indent="-504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carcă prezentările și bannerele Fireb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19120" indent="-504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Alătură-te MindTheBird! și ajută Firebird 2.5 să porneasc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Arial Unicode MS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Arial Unicode MS"/>
                <a:hlinkClick r:id="rId4"/>
              </a:rPr>
              <a:t>twitter.com/mindthefirebird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Arial Unicode MS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Arial Unicode MS"/>
                <a:hlinkClick r:id="rId6"/>
              </a:rPr>
              <a:t>groups.google.ru/group/mindthebird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Arial Unicode MS"/>
                <a:hlinkClick r:id="rId7"/>
              </a:rPr>
              <a:t>LinkedIn MindTheBi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19120" indent="-504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Pune bannerele și presentările Firebir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p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site-ul / blog-ul tă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losește fără restricție orice parte a acestei prezentări ca și template pentru propria prezentare legată de Firebi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29Z</dcterms:created>
  <dc:creator>www.MindTheBird.com</dc:creator>
  <dc:description/>
  <cp:keywords>firebird firebirdsql</cp:keywords>
  <dc:language>en-US</dc:language>
  <cp:lastModifiedBy>IBSurgeon</cp:lastModifiedBy>
  <dcterms:modified xsi:type="dcterms:W3CDTF">2010-03-08T19:34:16Z</dcterms:modified>
  <cp:revision>166</cp:revision>
  <dc:subject>Firebird</dc:subject>
  <dc:title>Firebird_Myths</dc:title>
</cp:coreProperties>
</file>