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70E7-0C40-4AAB-8BD8-49A4B7B12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000-33C9-4FB7-84F5-CD068BAD6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A00B-91B5-435E-9648-BCEA2FD84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C426-3FDE-47D1-BA77-666F5139C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0560-0536-422B-8C66-125442808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C284-2178-40B3-A64D-B241AC6E7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395F-FAF3-4BF9-AE0D-ECE303ED3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C681-D35C-40BE-823F-764605B70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597-BDA6-42EB-8619-3EA2DA29AD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2DD-324D-45C9-A065-E466B216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06C-F8EA-4E0D-ABEF-E5CB328E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43A-485B-430B-9488-1887F3A8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D1B-146D-4C12-9654-0694911B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D90-A38C-42A6-85AB-319C821C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9D7-FEDA-47A6-94C1-B9F8757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D09-6F85-4C2A-81E4-E0B4A9AD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AF0-8D36-4374-B17C-BE02DE71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CBE-E30C-48CB-BD28-FAAEED5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164-95F1-495A-B570-A0B73CD0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BC9-4EAB-468F-B3E5-282B61AF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895-B03A-4FFE-987A-3FB00113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DCB7-4341-4E94-B269-F350927D82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0FD6-7ED3-4D4C-9498-6D9E4EBD3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b-aid.com/articles/item104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irebirdsql.org/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hyperlink" Target="http://www.mindthebird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twitter.com/mindthefirebird" TargetMode="External"/><Relationship Id="rId3" Type="http://schemas.openxmlformats.org/officeDocument/2006/relationships/hyperlink" Target="http://twitter.com/mindthefirebird" TargetMode="External"/><Relationship Id="rId4" Type="http://schemas.openxmlformats.org/officeDocument/2006/relationships/hyperlink" Target="http://groups.google.ru/group/mindthebird" TargetMode="External"/><Relationship Id="rId5" Type="http://schemas.openxmlformats.org/officeDocument/2006/relationships/hyperlink" Target="http://groups.google.ru/group/mindthebir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Мифы о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ebir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TEMP\mtb\logos\firebird-logo-200.png"/>
          <p:cNvPicPr/>
          <p:nvPr/>
        </p:nvPicPr>
        <p:blipFill>
          <a:blip r:embed="rId1"/>
          <a:stretch/>
        </p:blipFill>
        <p:spPr>
          <a:xfrm>
            <a:off x="2766960" y="2041560"/>
            <a:ext cx="3268800" cy="3236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4"/>
          <p:cNvSpPr/>
          <p:nvPr/>
        </p:nvSpPr>
        <p:spPr>
          <a:xfrm>
            <a:off x="914400" y="5638680"/>
            <a:ext cx="7848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4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фы о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752480"/>
          <a:ext cx="6096240" cy="4063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Только для небольших Б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Мало где использу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Не поддерживает многоядер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Устар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Только для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phi/C++ Bui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а 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ерабай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000+ Gb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больша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b-aid.com/articles/item10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компаний работают с БД разме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450+ Gb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ы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игабайт не являются чем-то экстраординар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ее оборудование не дает автоматически хорошую производи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0" y="152280"/>
            <a:ext cx="9137520" cy="6426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ф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1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лько для небольших баз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оследние 12 месяце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ird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ановле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721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ксируется ссылкой на веб-страницу официального сайта из инсталлятор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800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ановок каждый ден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 последний год (от 1500 год назад до 2500 сейчас). Количество установок 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 др.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edded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собственных инсталляторов не отслежи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irebirdsql.or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никальных посетителей в день,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иллионов посетителей в г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,583,438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грузок с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да только 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urceforge.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 в репозитории всех главных дистрибутив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inux (Mandriva, Fedora, Debian, OpenSuse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жегодный рост использован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ло где использу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04560" y="159984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4 архитектур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на вы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embedded (dll), SuperServer,  Classic, SuperClas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ss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для большой нагрузки: процесс на пользователя, сотни пользователей, сотни гигабайт данны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uperSer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~&lt;100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ьзователей и современного оборудования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ь для процессор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to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uperClass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бинирует преимущества обоих архитекту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0" y="152280"/>
            <a:ext cx="9137520" cy="6426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ф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использует многоядер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39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bird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иваетс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bird Foundati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коммерческими комп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ка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0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лизо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.0, 1.5, 2.0, 2.1, 2.5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четкий план развит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3.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дится в альфа-тестирован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ых разработчиков ядра и драйв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ое сообщество во всем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ф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арел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6"/>
          <p:cNvGrpSpPr/>
          <p:nvPr/>
        </p:nvGrpSpPr>
        <p:grpSpPr>
          <a:xfrm>
            <a:off x="92160" y="1494000"/>
            <a:ext cx="4924440" cy="4687560"/>
            <a:chOff x="92160" y="1494000"/>
            <a:chExt cx="4924440" cy="4687560"/>
          </a:xfrm>
        </p:grpSpPr>
        <p:pic>
          <p:nvPicPr>
            <p:cNvPr id="67" name="Скругленный прямоугольник 16" descr=""/>
            <p:cNvPicPr/>
            <p:nvPr/>
          </p:nvPicPr>
          <p:blipFill>
            <a:blip r:embed="rId1"/>
            <a:stretch/>
          </p:blipFill>
          <p:spPr>
            <a:xfrm>
              <a:off x="92160" y="1494000"/>
              <a:ext cx="4924440" cy="46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6200" y="1747800"/>
              <a:ext cx="4353120" cy="41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5105160" y="153972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bird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yBird (J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IB, FIBPlus*, IBObjects* (Delphi/C++ Bui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Pascal &amp; Laza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P for Firebi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Ru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TEMP\mtb\logos\ms_net_rgb_web.jpg"/>
          <p:cNvPicPr/>
          <p:nvPr/>
        </p:nvPicPr>
        <p:blipFill>
          <a:blip r:embed="rId2"/>
          <a:stretch/>
        </p:blipFill>
        <p:spPr>
          <a:xfrm>
            <a:off x="2590920" y="1996920"/>
            <a:ext cx="1900080" cy="46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TEMP\mtb\logos\vs08_v_rgb_web.jpg"/>
          <p:cNvPicPr/>
          <p:nvPr/>
        </p:nvPicPr>
        <p:blipFill>
          <a:blip r:embed="rId3"/>
          <a:stretch/>
        </p:blipFill>
        <p:spPr>
          <a:xfrm>
            <a:off x="533520" y="3825720"/>
            <a:ext cx="2104920" cy="6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TEMP\mtb\logos\eclipse1.png"/>
          <p:cNvPicPr/>
          <p:nvPr/>
        </p:nvPicPr>
        <p:blipFill>
          <a:blip r:embed="rId4"/>
          <a:stretch/>
        </p:blipFill>
        <p:spPr>
          <a:xfrm>
            <a:off x="2971800" y="3902040"/>
            <a:ext cx="1628640" cy="8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TEMP\mtb\logos\jav_get_powered_med.jpg"/>
          <p:cNvPicPr/>
          <p:nvPr/>
        </p:nvPicPr>
        <p:blipFill>
          <a:blip r:embed="rId5"/>
          <a:stretch/>
        </p:blipFill>
        <p:spPr>
          <a:xfrm>
            <a:off x="457200" y="1828800"/>
            <a:ext cx="1905120" cy="84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TEMP\mtb\logos\php-med-trans.png"/>
          <p:cNvPicPr/>
          <p:nvPr/>
        </p:nvPicPr>
        <p:blipFill>
          <a:blip r:embed="rId6"/>
          <a:stretch/>
        </p:blipFill>
        <p:spPr>
          <a:xfrm>
            <a:off x="3124080" y="2911320"/>
            <a:ext cx="1206720" cy="6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:\TEMP\mtb\logos\rails.png"/>
          <p:cNvPicPr/>
          <p:nvPr/>
        </p:nvPicPr>
        <p:blipFill>
          <a:blip r:embed="rId7"/>
          <a:stretch/>
        </p:blipFill>
        <p:spPr>
          <a:xfrm>
            <a:off x="3429000" y="5045040"/>
            <a:ext cx="533520" cy="679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469080" y="298764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lphi/C++Bui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3" descr="C:\TEMP\mtb\logos\python-logo.png"/>
          <p:cNvPicPr/>
          <p:nvPr/>
        </p:nvPicPr>
        <p:blipFill>
          <a:blip r:embed="rId8"/>
          <a:stretch/>
        </p:blipFill>
        <p:spPr>
          <a:xfrm>
            <a:off x="685800" y="4892760"/>
            <a:ext cx="135900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C:\TEMP\mtb\logos\perl.bmp"/>
          <p:cNvPicPr/>
          <p:nvPr/>
        </p:nvPicPr>
        <p:blipFill>
          <a:blip r:embed="rId9"/>
          <a:stretch/>
        </p:blipFill>
        <p:spPr>
          <a:xfrm>
            <a:off x="1752480" y="5502240"/>
            <a:ext cx="789120" cy="317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566680" y="601992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мерческое П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5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для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phi/C++ Build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990360"/>
            <a:ext cx="9067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етите сайт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ачай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зентации и банн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соединитес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indTheBird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могите запуск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rebird 2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.com/mindthefirebi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groups.google.ru/group/mindthebi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dIn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indTheBi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местите баннеры и презент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ашем сайте и в бло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йте шаблон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екста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с-релиз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Любую часть презентаций можно использовать в своих презентациях по продуктам, использующи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rebi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Запуск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Firebird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2.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следующие ша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www.MindTheBird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29Z</dcterms:created>
  <dc:creator>www.MindTheBird.com</dc:creator>
  <dc:description/>
  <cp:keywords>firebird firebirdsql</cp:keywords>
  <dc:language>en-US</dc:language>
  <cp:lastModifiedBy>Дмитрий Кузьменко</cp:lastModifiedBy>
  <dcterms:modified xsi:type="dcterms:W3CDTF">2010-03-23T08:25:07Z</dcterms:modified>
  <cp:revision>168</cp:revision>
  <dc:subject>Firebird</dc:subject>
  <dc:title>Firebird_Myths</dc:title>
</cp:coreProperties>
</file>