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FA82-7A81-4E9F-A651-857635170B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A3B7-5CFD-482C-9719-1AE355A168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936E-EA13-40D6-B93C-ACEFDBFAC1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AB2E-B370-4017-A0D7-126880596B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8B3B-BE9E-495B-A1E4-B51A0E10AF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B983-5FB9-41E2-BD08-78B2A40029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C3ED-AC93-470C-B4AB-7AC19E6F78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E0F2-0991-47B6-8EA1-315D91E143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C04A-5A86-441F-BF43-F345536D17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FD35-97F7-4F2A-9120-FA22D059E1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D75A-CC25-453E-942E-F3D350657C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39A9-FBC1-4814-AC3B-EE5F094EFD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DDED-2DF5-4339-AE83-A2E4925E12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DF16-05B1-46B2-959C-DC59CF02C8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AE96-926E-47E7-A17D-F6FB4F3D5D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FBA9-AF89-4A2D-9B40-9F3714B30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4457-2397-44E6-9A33-47A9F2EE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4ACA-FD5E-4A90-959E-8CEACF0F4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E918-4939-49C8-B405-7D017ECF1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D9D5-B45D-4DDD-97F3-AD6EF675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FE7D-E456-4B83-A3B3-BEF0FC5B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75A4-AE09-4D8C-8826-E31B6CA8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CAB1-DCB3-421C-B569-86CF9686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B2B5-7243-4C2C-84A9-6244C69A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ECE5-F0F2-4782-A414-5BE981CF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3379-997C-44D5-BCC8-68367FF8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BD3D-2CD9-4B57-AF99-4089A3C6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8F38-4590-4605-B13B-C97CA9614F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MindTheBird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E7D8-F4B4-4205-842D-94C4787D6F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indthebird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dmin@mindthebird.com" TargetMode="External"/><Relationship Id="rId2" Type="http://schemas.openxmlformats.org/officeDocument/2006/relationships/hyperlink" Target="http://www.mindthebird.com/" TargetMode="External"/><Relationship Id="rId3" Type="http://schemas.openxmlformats.org/officeDocument/2006/relationships/hyperlink" Target="mailto:admin@mindthebird.co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indthebird.com/" TargetMode="External"/><Relationship Id="rId2" Type="http://schemas.openxmlformats.org/officeDocument/2006/relationships/hyperlink" Target="http://twitter.com/mindthefirebird" TargetMode="External"/><Relationship Id="rId3" Type="http://schemas.openxmlformats.org/officeDocument/2006/relationships/hyperlink" Target="http://groups.google.ru/group/mindthebird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indthebird.com/downloadmtb.html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indthebird.com/" TargetMode="External"/><Relationship Id="rId2" Type="http://schemas.openxmlformats.org/officeDocument/2006/relationships/hyperlink" Target="http://www.mindthebird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30556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Mind The Bird!</a:t>
            </a:r>
            <a:br>
              <a:rPr sz="65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пуск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rebird 2.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TEMP\mtb\logos\firebird-logo-200.png"/>
          <p:cNvPicPr/>
          <p:nvPr/>
        </p:nvPicPr>
        <p:blipFill>
          <a:blip r:embed="rId1"/>
          <a:stretch/>
        </p:blipFill>
        <p:spPr>
          <a:xfrm>
            <a:off x="4668840" y="2462040"/>
            <a:ext cx="3268800" cy="3232440"/>
          </a:xfrm>
          <a:prstGeom prst="rect">
            <a:avLst/>
          </a:prstGeom>
          <a:ln w="0">
            <a:noFill/>
          </a:ln>
        </p:spPr>
      </p:pic>
      <p:sp>
        <p:nvSpPr>
          <p:cNvPr id="50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MindTheBird.com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762120" y="3200400"/>
            <a:ext cx="3581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 ВЫ можете помочь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rebi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0" y="10663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обальные вебинар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английск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Т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работчики, производители инструментов, энтузиас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яжитесь 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admin@mindthebird.co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уточнения расписания, или смотрите на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mindthebird.co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окальные вебина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Т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юбые локальные энтузиасты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ebi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яжитесь 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admin@mindthebird.com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для согласования даты и рекла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бинары бесплат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BSurgeon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нсирует затраты на вебинар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писи вебинаров будут опубликова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0" y="152280"/>
            <a:ext cx="9144000" cy="7642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быт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6840" y="12949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текстная рекл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ссивная контекстная реклама в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gle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делю до вых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влечь внимание разработчиков, использующих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ySQL, MSSQL, InterBase, Ora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воначальный спонсор 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BSurgeon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глашаются другие спонсо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бинар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250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ловек в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veMeet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должить маркетинговые усили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льше презентаций и локализованных материа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0" y="152280"/>
            <a:ext cx="9144000" cy="7642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unch and post-lau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аткосрочные зада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ртнеров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dTheBi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00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бровольце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ISV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нтузиаст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т.д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размещающих материалы и баннеры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dTheBird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своих сайтах и блог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0000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ачиваний материа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0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атей 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ebird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всему мир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лгосрочная задач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ke the word to mind the Firebird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0" y="152280"/>
            <a:ext cx="9144000" cy="7642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0" y="990360"/>
            <a:ext cx="9067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етите сайт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indTheBird.co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935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качайт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резентации и банне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935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соединитес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indTheBird!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помогите запуск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irebird 2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twitter.com/mindthefirebir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groups.google.ru/group/mindthebir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nkedIn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пп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indTheBi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935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местите баннеры и презентац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 вашем сайте и в блог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935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пользуйте шаблон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текста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ail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сс-релиз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Любую часть презентаций можно использовать в своих презентациях по продуктам, использующим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irebir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152280" y="152280"/>
            <a:ext cx="8763120" cy="703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 делать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MindTheBird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соединяйтесь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343400" cy="4343400"/>
          </a:xfrm>
          <a:prstGeom prst="rect">
            <a:avLst/>
          </a:prstGeom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7" name="TextBox 2"/>
          <p:cNvSpPr/>
          <p:nvPr/>
        </p:nvSpPr>
        <p:spPr>
          <a:xfrm>
            <a:off x="380880" y="5872320"/>
            <a:ext cx="861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Вопрос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? admin@mindthebird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-360" y="990720"/>
            <a:ext cx="5334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анс вовремя сказать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авильные слова о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rebi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лиз 2.5 эт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00%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овость для прессы и блоггеро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это нужно использов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вильное время для разговора о сравнении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ySQL, InterBase, MS SQ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вод заинтересовать людей в переходе с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5, 2.0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2.1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2.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0" y="152280"/>
            <a:ext cx="9144000" cy="7642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чему это так важно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"/>
          <p:cNvPicPr/>
          <p:nvPr/>
        </p:nvPicPr>
        <p:blipFill>
          <a:blip r:embed="rId1"/>
          <a:stretch/>
        </p:blipFill>
        <p:spPr>
          <a:xfrm>
            <a:off x="5334120" y="1219320"/>
            <a:ext cx="380988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4"/>
          <p:cNvSpPr/>
          <p:nvPr/>
        </p:nvSpPr>
        <p:spPr>
          <a:xfrm>
            <a:off x="0" y="152280"/>
            <a:ext cx="9144000" cy="7642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Автофигура 8"/>
          <p:cNvSpPr/>
          <p:nvPr/>
        </p:nvSpPr>
        <p:spPr>
          <a:xfrm>
            <a:off x="228600" y="1219320"/>
            <a:ext cx="8763120" cy="990360"/>
          </a:xfrm>
          <a:prstGeom prst="rightArrow">
            <a:avLst>
              <a:gd name="adj1" fmla="val 67944"/>
              <a:gd name="adj2" fmla="val 65175"/>
            </a:avLst>
          </a:prstGeom>
          <a:solidFill>
            <a:srgbClr val="cc6600"/>
          </a:solidFill>
          <a:ln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ть материал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. 9"/>
          <p:cNvSpPr/>
          <p:nvPr/>
        </p:nvSpPr>
        <p:spPr>
          <a:xfrm>
            <a:off x="228600" y="2133720"/>
            <a:ext cx="6248520" cy="19810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нне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ы пис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ы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сс-релиз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Автофигура 10"/>
          <p:cNvSpPr/>
          <p:nvPr/>
        </p:nvSpPr>
        <p:spPr>
          <a:xfrm>
            <a:off x="2133720" y="1752480"/>
            <a:ext cx="6858000" cy="990720"/>
          </a:xfrm>
          <a:prstGeom prst="rightArrow">
            <a:avLst>
              <a:gd name="adj1" fmla="val 61537"/>
              <a:gd name="adj2" fmla="val 66659"/>
            </a:avLst>
          </a:prstGeom>
          <a:solidFill>
            <a:srgbClr val="993366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влечь люде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. 11"/>
          <p:cNvSpPr/>
          <p:nvPr/>
        </p:nvSpPr>
        <p:spPr>
          <a:xfrm>
            <a:off x="2133720" y="2666880"/>
            <a:ext cx="624816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ы 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айт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ые се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бина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одители П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Автофигура 12"/>
          <p:cNvSpPr/>
          <p:nvPr/>
        </p:nvSpPr>
        <p:spPr>
          <a:xfrm>
            <a:off x="4495680" y="2286000"/>
            <a:ext cx="4496040" cy="990720"/>
          </a:xfrm>
          <a:prstGeom prst="rightArrow">
            <a:avLst>
              <a:gd name="adj1" fmla="val 65704"/>
              <a:gd name="adj2" fmla="val 65866"/>
            </a:avLst>
          </a:prstGeom>
          <a:solidFill>
            <a:srgbClr val="4f81b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роприят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. 13"/>
          <p:cNvSpPr/>
          <p:nvPr/>
        </p:nvSpPr>
        <p:spPr>
          <a:xfrm>
            <a:off x="4495680" y="3200400"/>
            <a:ext cx="3886200" cy="19810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бина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курс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те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готип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о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Автофигура 15"/>
          <p:cNvSpPr/>
          <p:nvPr/>
        </p:nvSpPr>
        <p:spPr>
          <a:xfrm>
            <a:off x="6172200" y="2819520"/>
            <a:ext cx="2819520" cy="990360"/>
          </a:xfrm>
          <a:prstGeom prst="rightArrow">
            <a:avLst>
              <a:gd name="adj1" fmla="val 63463"/>
              <a:gd name="adj2" fmla="val 65889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выход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. 16"/>
          <p:cNvSpPr/>
          <p:nvPr/>
        </p:nvSpPr>
        <p:spPr>
          <a:xfrm>
            <a:off x="6172200" y="3733920"/>
            <a:ext cx="2209680" cy="19810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ый вебина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сс-релиз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7640" y="950760"/>
          <a:ext cx="9050040" cy="5718240"/>
        </p:xfrm>
        <a:graphic>
          <a:graphicData uri="http://schemas.openxmlformats.org/drawingml/2006/table">
            <a:tbl>
              <a:tblPr/>
              <a:tblGrid>
                <a:gridCol w="3792240"/>
                <a:gridCol w="525780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Материа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Опис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резентац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(ppt/pdf),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на английском и других языках, также доступны на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lideshare (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легко встроить в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ht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Короткий обзор по функциональности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Firebird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для общей аудитории, и техническая информация для знакомых с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Firebird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разработчиков П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Баннеры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,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на английском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(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есть исходники, в т.ч.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flas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баннера для энтузиастов и партнеров, которые хотят поддержать выход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Firebird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5 размещая эти баннеры на своем сайте или в блог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равильные сл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Блоки текста с описанием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Firebird,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для использования в партнерских материалах и на веб-сайт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Шаблон пись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Для тех кто хочет присоединиться к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indTheBird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и хочет объявить об этом своим клиент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Шаблон пресс-рели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Для тех, кто хочет объявить о совместимости своего приложения с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Firebird 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100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ереводы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с английского на немецкий, испанский, португальский, русский, польский и т.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Нужны добровольцы для перевода материалов, составляющих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indTheBird kit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TextBox 4"/>
          <p:cNvSpPr/>
          <p:nvPr/>
        </p:nvSpPr>
        <p:spPr>
          <a:xfrm>
            <a:off x="17640" y="152280"/>
            <a:ext cx="9144000" cy="703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ркетинговые материалы готовы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59840" y="1143000"/>
            <a:ext cx="40388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Скачайт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аннеры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pt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шаблон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Разместите баннеры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 сайте или в блог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17640" y="152280"/>
            <a:ext cx="9144000" cy="7642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 использовать эти материа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5" descr=""/>
          <p:cNvPicPr/>
          <p:nvPr/>
        </p:nvPicPr>
        <p:blipFill>
          <a:blip r:embed="rId2"/>
          <a:stretch/>
        </p:blipFill>
        <p:spPr>
          <a:xfrm>
            <a:off x="4675320" y="201600"/>
            <a:ext cx="4565520" cy="40593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6" descr=""/>
          <p:cNvPicPr/>
          <p:nvPr/>
        </p:nvPicPr>
        <p:blipFill>
          <a:blip r:embed="rId3"/>
          <a:stretch/>
        </p:blipFill>
        <p:spPr>
          <a:xfrm>
            <a:off x="4340160" y="1468440"/>
            <a:ext cx="4432320" cy="49132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8" descr=""/>
          <p:cNvPicPr/>
          <p:nvPr/>
        </p:nvPicPr>
        <p:blipFill>
          <a:blip r:embed="rId4"/>
          <a:stretch/>
        </p:blipFill>
        <p:spPr>
          <a:xfrm>
            <a:off x="3597120" y="2371680"/>
            <a:ext cx="2706840" cy="479736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28440" y="2946240"/>
            <a:ext cx="35528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зместите или встройте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зентации на вашем сайте или блог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уйт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для ваших презентац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75960" y="152388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уйт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шаблон письм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анонса о присоединении вашей компании к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dTheBi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местите анонс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сайте и отправьте своим клиентам письм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MindTheBird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17640" y="152280"/>
            <a:ext cx="9144000" cy="14346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соединились к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indTheBird?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ъявите об этом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4" descr=""/>
          <p:cNvPicPr/>
          <p:nvPr/>
        </p:nvPicPr>
        <p:blipFill>
          <a:blip r:embed="rId1"/>
          <a:stretch/>
        </p:blipFill>
        <p:spPr>
          <a:xfrm>
            <a:off x="3571920" y="652320"/>
            <a:ext cx="5419800" cy="602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522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Если вы разработчик ПО, использующего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rebird –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ыпустите пресс-релиз с анонсом поддержк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Firebird 2.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тправьте его вашим клиента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не спам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MindTheBird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17640" y="152280"/>
            <a:ext cx="9144000" cy="1312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ботаете с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Firebird 2.5?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пустите пресс-релиз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3" descr=""/>
          <p:cNvPicPr/>
          <p:nvPr/>
        </p:nvPicPr>
        <p:blipFill>
          <a:blip r:embed="rId1"/>
          <a:stretch/>
        </p:blipFill>
        <p:spPr>
          <a:xfrm>
            <a:off x="4681440" y="1139760"/>
            <a:ext cx="459576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MindTheBird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4114800" y="297180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Firebird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омог вам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ерните долг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Firebir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8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392904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60360" y="1143000"/>
            <a:ext cx="86313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ля всех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акет маркетинговых материалов под свободной лицензией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ля использования в качестве шаблона для собственных материало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ля представителей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бровольце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irebird IS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ключение в список на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indthebird.com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нкурсы и лотереи с призам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ицензии от спонсоров и денежные призы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ля официальных спонсоро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изводителей инструменто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е перечисленно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аннеры и статьи на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mindthebird.com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зентации в вебинара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лагодарность от всех пользователей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rebir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17640" y="152280"/>
            <a:ext cx="9144000" cy="7642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ля участн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0:04:29Z</dcterms:created>
  <dc:creator>www.MindTheBird.com</dc:creator>
  <dc:description/>
  <cp:keywords>firebird firebirdsql</cp:keywords>
  <dc:language>en-US</dc:language>
  <cp:lastModifiedBy>Дмитрий Кузьменко</cp:lastModifiedBy>
  <dcterms:modified xsi:type="dcterms:W3CDTF">2010-03-22T19:32:41Z</dcterms:modified>
  <cp:revision>217</cp:revision>
  <dc:subject>Firebird</dc:subject>
  <dc:title>Firebird_Short_Overview</dc:title>
</cp:coreProperties>
</file>