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4E5-705C-4B78-B195-604EF24D6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61A6-6022-499D-97EC-03FC3C5C8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7991-F2D9-46E9-9B50-AFBE43072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A2FE-1EED-4BC7-8929-C70A30979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2F6-2E63-4AF7-AE32-524E08048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AF68-3159-4B3B-B643-B9B001D4B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1E7A-B1BF-46B9-BA98-9A933E4D4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9219-0FEE-4C3E-ABA7-B27DF7C6C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5B47-5AA1-4C00-B778-A6AD6D785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F89-1901-4BA1-82F8-E17B662A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299-5A5F-4A17-9DB4-9A7DA92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E15-0B7C-485B-AC59-33C1FA51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D81-1DA4-46DD-AF38-DA47C116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714-81BB-45BA-AD68-7E2AC3A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89E-4D87-492C-8E11-71C582D7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831-7DC2-4BDD-AE01-54EBD0FE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B50-7D8E-4DF1-8F3A-998DBD2A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912-91CC-41FC-8177-491F976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553-6462-4B25-916B-373D99AC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A33-DC33-49D8-B7E3-1AA48786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202-045E-4325-8042-D3E13B6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925-9787-4259-BAF9-931127BE17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70A-E887-4402-90E0-207E9AF26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-aid.com/articles/item104" TargetMode="External"/><Relationship Id="rId2" Type="http://schemas.openxmlformats.org/officeDocument/2006/relationships/hyperlink" Target="http://www.ib-aid.com/articles/item104" TargetMode="External"/><Relationship Id="rId3" Type="http://schemas.openxmlformats.org/officeDocument/2006/relationships/hyperlink" Target="http://www.mindthebird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irebirdsql.org/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hyperlink" Target="http://www.mindthebird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twitter.com/mindthefirebir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ebird Mythbuste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TEMP\mtb\logos\firebird-logo-200.png"/>
          <p:cNvPicPr/>
          <p:nvPr/>
        </p:nvPicPr>
        <p:blipFill>
          <a:blip r:embed="rId1"/>
          <a:stretch/>
        </p:blipFill>
        <p:spPr>
          <a:xfrm>
            <a:off x="2766960" y="2041560"/>
            <a:ext cx="3268800" cy="3236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4"/>
          <p:cNvSpPr/>
          <p:nvPr/>
        </p:nvSpPr>
        <p:spPr>
          <a:xfrm>
            <a:off x="914400" y="5638680"/>
            <a:ext cx="7848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4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4" descr=""/>
          <p:cNvPicPr/>
          <p:nvPr/>
        </p:nvPicPr>
        <p:blipFill>
          <a:blip r:embed="rId1"/>
          <a:stretch/>
        </p:blipFill>
        <p:spPr>
          <a:xfrm>
            <a:off x="401760" y="1566720"/>
            <a:ext cx="8345520" cy="464508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bird 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1Terabyte (1000+ Gb) small? See repor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ib-aid.com/articles/item10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ompanies run real-world 450+ Gb databases, 100+Gb databases are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st hardware requirements are not equal to modes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1: Only for small (desktop) datab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495 570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ndow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all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last 12 month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logged using optional web-link notification, embedded in Windows-installer). Linux and embedded installations are not coun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00 visitors/per day and 1.8M annual unique visitors at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irebirdsql.or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6,583,438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wnloads since 2000 from sourceforge.net on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luded into the repositories of all main Linux distributives (Mandriva, Fedora, Debian, OpenSuse, et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10% YoY usage growth every ye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2: Not widely us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04560" y="159984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 architec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embedded (dll), SuperServer,  Classic, SuperClas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ss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designed for heavy load – instance per connection, hundreds of users, terabytes of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Ser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for ~&lt;100 users and modest hardware (it is full-blown SQL database for Atom-based energy-efficient servers and netbooks app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Class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mbines advantages of both architectures – memory-efficient solution with multi-core/CPU support, supports &gt;1000 conn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0" y="152280"/>
            <a:ext cx="9137520" cy="1312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3: Lack of multi-core/multi-CPU sup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39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bird development is supported by Firebird Foundation and companies around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runs since 2000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main relea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.0, 1.5, 2.0, 2.1, 2.5) and steady roadmap is in place (3.0 is in alpha st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active developers cover the core and main drivers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ge and very loy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4: No commitme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6"/>
          <p:cNvGrpSpPr/>
          <p:nvPr/>
        </p:nvGrpSpPr>
        <p:grpSpPr>
          <a:xfrm>
            <a:off x="92160" y="1494000"/>
            <a:ext cx="4924440" cy="4687560"/>
            <a:chOff x="92160" y="1494000"/>
            <a:chExt cx="4924440" cy="4687560"/>
          </a:xfrm>
        </p:grpSpPr>
        <p:pic>
          <p:nvPicPr>
            <p:cNvPr id="67" name="Скругленный 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92160" y="1494000"/>
              <a:ext cx="4924440" cy="46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6200" y="1747800"/>
              <a:ext cx="4353120" cy="41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5105160" y="153972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bird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yBird (J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IB, FIBPlus*, IBObjects* (Delphi/C++ Bui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Pascal &amp; Laza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 for Firebi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TEMP\mtb\logos\ms_net_rgb_web.jpg"/>
          <p:cNvPicPr/>
          <p:nvPr/>
        </p:nvPicPr>
        <p:blipFill>
          <a:blip r:embed="rId2"/>
          <a:stretch/>
        </p:blipFill>
        <p:spPr>
          <a:xfrm>
            <a:off x="2590920" y="1996920"/>
            <a:ext cx="1900080" cy="46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TEMP\mtb\logos\vs08_v_rgb_web.jpg"/>
          <p:cNvPicPr/>
          <p:nvPr/>
        </p:nvPicPr>
        <p:blipFill>
          <a:blip r:embed="rId3"/>
          <a:stretch/>
        </p:blipFill>
        <p:spPr>
          <a:xfrm>
            <a:off x="533520" y="3825720"/>
            <a:ext cx="2104920" cy="6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TEMP\mtb\logos\eclipse1.png"/>
          <p:cNvPicPr/>
          <p:nvPr/>
        </p:nvPicPr>
        <p:blipFill>
          <a:blip r:embed="rId4"/>
          <a:stretch/>
        </p:blipFill>
        <p:spPr>
          <a:xfrm>
            <a:off x="2971800" y="3902040"/>
            <a:ext cx="1628640" cy="8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TEMP\mtb\logos\jav_get_powered_med.jpg"/>
          <p:cNvPicPr/>
          <p:nvPr/>
        </p:nvPicPr>
        <p:blipFill>
          <a:blip r:embed="rId5"/>
          <a:stretch/>
        </p:blipFill>
        <p:spPr>
          <a:xfrm>
            <a:off x="457200" y="1828800"/>
            <a:ext cx="1905120" cy="84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TEMP\mtb\logos\php-med-trans.png"/>
          <p:cNvPicPr/>
          <p:nvPr/>
        </p:nvPicPr>
        <p:blipFill>
          <a:blip r:embed="rId6"/>
          <a:stretch/>
        </p:blipFill>
        <p:spPr>
          <a:xfrm>
            <a:off x="3124080" y="2911320"/>
            <a:ext cx="1206720" cy="6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TEMP\mtb\logos\rails.png"/>
          <p:cNvPicPr/>
          <p:nvPr/>
        </p:nvPicPr>
        <p:blipFill>
          <a:blip r:embed="rId7"/>
          <a:stretch/>
        </p:blipFill>
        <p:spPr>
          <a:xfrm>
            <a:off x="3429000" y="5045040"/>
            <a:ext cx="533520" cy="679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469080" y="298764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lphi/C++Bui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3" descr="C:\TEMP\mtb\logos\python-logo.png"/>
          <p:cNvPicPr/>
          <p:nvPr/>
        </p:nvPicPr>
        <p:blipFill>
          <a:blip r:embed="rId8"/>
          <a:stretch/>
        </p:blipFill>
        <p:spPr>
          <a:xfrm>
            <a:off x="685800" y="4892760"/>
            <a:ext cx="135900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C:\TEMP\mtb\logos\perl.bmp"/>
          <p:cNvPicPr/>
          <p:nvPr/>
        </p:nvPicPr>
        <p:blipFill>
          <a:blip r:embed="rId9"/>
          <a:stretch/>
        </p:blipFill>
        <p:spPr>
          <a:xfrm>
            <a:off x="1752480" y="5502240"/>
            <a:ext cx="789120" cy="317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573160" y="6019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commercial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yth 5. Only for Delphi/C++ Build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990360"/>
            <a:ext cx="9067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Firebird 2.5 Launch sit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Firebird presentations and ba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 MindTheBird! and help Firebird 2.5 to 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itter.com/mindthefireb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groups.google.ru/group/mindtheb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In MindTh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banners and presentations on your site/b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l free to use any part of this presentation as a template for your own Firebird-related presen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 Launch: 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IBSurgeon</cp:lastModifiedBy>
  <dcterms:modified xsi:type="dcterms:W3CDTF">2010-03-08T19:34:16Z</dcterms:modified>
  <cp:revision>166</cp:revision>
  <dc:subject>Firebird</dc:subject>
  <dc:title>Firebird_Myths</dc:title>
</cp:coreProperties>
</file>